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8F6-2657-46F6-A25C-8CF6796C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92A-E71D-480F-A61C-19093931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DF4-2798-4E40-ADC1-BE385E94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F80-E0EE-49E3-B001-3EF35857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93B-74FD-4FE6-B96A-BE983F00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FF8-B942-4D53-B683-51B721D5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43A-82B0-4B6A-91B2-B9A169A5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F55-02E2-4F38-8B29-4F0CBFEC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6EF-316B-466A-941E-E1C91529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2A8-7A28-4CFC-9A8E-34489310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947-6C32-4580-AB9F-D618519D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38C-445D-40BE-BAD1-5CB67219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3922-F658-404C-9D73-A5FC107EB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3068640"/>
            <a:ext cx="7705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Мария Альберт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Зиро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Профессор кафедры математики и инфор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Лекции по математике для студентов экономических специаль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оказательная форма записи    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            комплексных чисел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з формулы Эй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2124000" y="2565360"/>
                <a:ext cx="4716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468360" y="3716280"/>
                <a:ext cx="7777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6560" y="1700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07-178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еонард Эйлер принадлежит к числу гениев, чье твор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ало достоянием всего человечества. Открытия Эйлер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атематике, механике, физике и технике прочно вошл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временную науку. Многие из них были сделаны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етербургской Академии наук, где Леонард Эй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работал 31 год (в 1727-1741 гг. и 1766-1783 гг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7" descr="http://yak15.narod.ru/eiler.jpg"/>
          <p:cNvPicPr/>
          <p:nvPr/>
        </p:nvPicPr>
        <p:blipFill>
          <a:blip r:embed="rId1"/>
          <a:stretch/>
        </p:blipFill>
        <p:spPr>
          <a:xfrm>
            <a:off x="6659640" y="2060640"/>
            <a:ext cx="1657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оказательная форма записи    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            комплексных чисел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з формулы Эй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3924360" y="2984400"/>
                <a:ext cx="4716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395280" y="5229360"/>
                <a:ext cx="7777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Рисунок 4" descr="http://www.dsplib.ru/content/complex/complex_html_m17bdf51c.gif"/>
          <p:cNvPicPr/>
          <p:nvPr/>
        </p:nvPicPr>
        <p:blipFill>
          <a:blip r:embed="rId1"/>
          <a:stretch/>
        </p:blipFill>
        <p:spPr>
          <a:xfrm>
            <a:off x="250920" y="2205000"/>
            <a:ext cx="35240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1560"/>
            <a:ext cx="7777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6bcf"/>
                </a:solidFill>
                <a:uFillTx/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=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1-i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записать в тригонометрической и показательной формах.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ение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50920" y="2492280"/>
                <a:ext cx="8426520" cy="40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Операции над комплексными числами</a:t>
            </a:r>
            <a:br>
              <a:rPr sz="2400"/>
            </a:b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=x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+iy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=x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+iy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Сумма двух комплексных чисел и есть также комплексное числ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=(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)+i(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  <a:ea typeface="Calibri"/>
              </a:rPr>
              <a:t>Пример: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3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)+(1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)=(3+1)+i(2+5)=4+7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Как следует из выражения при сложении реальные и мнимые части комплексного числа также склады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http://www.dsplib.ru/content/complex/complex_html_52954dab.gif"/>
          <p:cNvPicPr/>
          <p:nvPr/>
        </p:nvPicPr>
        <p:blipFill>
          <a:blip r:embed="rId1"/>
          <a:stretch/>
        </p:blipFill>
        <p:spPr>
          <a:xfrm>
            <a:off x="2266920" y="2060640"/>
            <a:ext cx="4249800" cy="3097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На комплексной плоскости операцию сложения можно реализовать как сложение векторов комплексных чисел по правилу параллел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Разность двух комплексных чисел и есть также комплексное число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=(x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x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)+i(y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y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Arial"/>
                <a:ea typeface="Calibri"/>
              </a:rPr>
              <a:t>Пример: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(4+i)-(-2-i)=(4+2)+i(1+1)=6+2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lang="ru-RU" sz="1800" spc="-1" strike="noStrike">
                <a:solidFill>
                  <a:srgbClr val="6b6bcf"/>
                </a:solidFill>
                <a:latin typeface="Arial"/>
                <a:ea typeface="Calibri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На комплексной плоскости опера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я можно реализовать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е векторов  комплекс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чисел по правилу параллелограмм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На первом шаге из вектора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формируется вектор           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после чего вектор          склад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с вектором                 по правилу параллелограм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6200" y="331920"/>
            <a:ext cx="85186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6b6bcf"/>
                </a:solidFill>
                <a:latin typeface="Calibri"/>
                <a:ea typeface="Calibri"/>
              </a:rPr>
              <a:t>2.</a:t>
            </a:r>
            <a:r>
              <a:rPr b="1" lang="ru-RU" sz="20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е комплексных чисе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8" descr="http://www.dsplib.ru/content/complex/complex_html_51886597.gif"/>
          <p:cNvPicPr/>
          <p:nvPr/>
        </p:nvPicPr>
        <p:blipFill>
          <a:blip r:embed="rId1"/>
          <a:stretch/>
        </p:blipFill>
        <p:spPr>
          <a:xfrm>
            <a:off x="5076720" y="2349360"/>
            <a:ext cx="360684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9" descr="http://www.dsplib.ru/content/complex/complex_html_7dbf2272.gif"/>
          <p:cNvPicPr/>
          <p:nvPr/>
        </p:nvPicPr>
        <p:blipFill>
          <a:blip r:embed="rId2"/>
          <a:stretch/>
        </p:blipFill>
        <p:spPr>
          <a:xfrm>
            <a:off x="3695760" y="4653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0" descr="http://www.dsplib.ru/content/complex/complex_html_7444b6fa.gif"/>
          <p:cNvPicPr/>
          <p:nvPr/>
        </p:nvPicPr>
        <p:blipFill>
          <a:blip r:embed="rId3"/>
          <a:stretch/>
        </p:blipFill>
        <p:spPr>
          <a:xfrm>
            <a:off x="3022560" y="5162400"/>
            <a:ext cx="36216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1" descr="http://www.dsplib.ru/content/complex/complex_html_7dbf2272.gif"/>
          <p:cNvPicPr/>
          <p:nvPr/>
        </p:nvPicPr>
        <p:blipFill>
          <a:blip r:embed="rId4"/>
          <a:stretch/>
        </p:blipFill>
        <p:spPr>
          <a:xfrm>
            <a:off x="2700360" y="5589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3" descr="http://www.dsplib.ru/content/complex/complex_html_7444b6fa.gif"/>
          <p:cNvPicPr/>
          <p:nvPr/>
        </p:nvPicPr>
        <p:blipFill>
          <a:blip r:embed="rId5"/>
          <a:stretch/>
        </p:blipFill>
        <p:spPr>
          <a:xfrm>
            <a:off x="2124000" y="6093000"/>
            <a:ext cx="3621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 Умножение комплексных чисел.</a:t>
            </a:r>
            <a:br>
              <a:rPr sz="2400"/>
            </a:br>
            <a:r>
              <a:rPr b="0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Для того чтобы получить формулу для умножения комплексных чисел необходимо перемножить два комплексных числа по правилу умножения многочленов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+i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ример 1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3i)(-5-2i)=-5-15i-2i-6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-5-17i+6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-17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ример 2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3i)(1-3i)=1-3i+3i-9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1+9=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сегда действите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681120" y="5070600"/>
                <a:ext cx="1154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 Деление комплексных чисел</a:t>
            </a:r>
            <a:br>
              <a:rPr sz="2400"/>
            </a:br>
            <a:br>
              <a:rPr sz="24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1474920" y="981000"/>
                <a:ext cx="5543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акое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что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539640" y="3357720"/>
                <a:ext cx="8136000" cy="26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5. Операции над комплексными числами, заданными в тригонометрической форм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1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2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3.</a:t>
            </a:r>
            <a:br>
              <a:rPr sz="2400"/>
            </a:br>
            <a:br>
              <a:rPr sz="2400"/>
            </a:br>
            <a:br>
              <a:rPr sz="32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4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95280" y="1844640"/>
                <a:ext cx="7993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68360" y="2637000"/>
                <a:ext cx="80643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9640" y="4221000"/>
                <a:ext cx="734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nϕ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0" y="5680080"/>
                <a:ext cx="9144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z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1413000"/>
            <a:ext cx="7705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Комплексные чис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реде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формы записи комплексного чис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ерации над комплексными чис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331920"/>
            <a:ext cx="84452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ить уравнени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ение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067280" y="404640"/>
                <a:ext cx="31687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250920" y="1773360"/>
                <a:ext cx="8137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9"/>
              <p:cNvSpPr txBox="1"/>
              <p:nvPr/>
            </p:nvSpPr>
            <p:spPr>
              <a:xfrm>
                <a:off x="539640" y="5141880"/>
                <a:ext cx="66963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1"/>
              <p:cNvSpPr txBox="1"/>
              <p:nvPr/>
            </p:nvSpPr>
            <p:spPr>
              <a:xfrm>
                <a:off x="1042920" y="3213000"/>
                <a:ext cx="6624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3"/>
              <p:cNvSpPr txBox="1"/>
              <p:nvPr/>
            </p:nvSpPr>
            <p:spPr>
              <a:xfrm>
                <a:off x="1325520" y="4076640"/>
                <a:ext cx="55548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ределение.</a:t>
            </a:r>
            <a:br>
              <a:rPr sz="36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Комплексным числом называется выражение вида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где             -   действительные числа</a:t>
            </a:r>
            <a:r>
              <a:rPr b="0" i="1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,           мнимая единица.  Число           действительная часть комплексного числа        и обозначается             , а</a:t>
            </a:r>
            <a:br>
              <a:rPr sz="24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мнимая часть и обозначается                ,     т.е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6659640" y="3933720"/>
                <a:ext cx="86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Объект 2"/>
              <p:cNvSpPr txBox="1"/>
              <p:nvPr/>
            </p:nvSpPr>
            <p:spPr>
              <a:xfrm>
                <a:off x="2843280" y="2637000"/>
                <a:ext cx="24238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Объект 5"/>
              <p:cNvSpPr txBox="1"/>
              <p:nvPr/>
            </p:nvSpPr>
            <p:spPr>
              <a:xfrm>
                <a:off x="3635280" y="4005360"/>
                <a:ext cx="515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Объект 3"/>
              <p:cNvSpPr txBox="1"/>
              <p:nvPr/>
            </p:nvSpPr>
            <p:spPr>
              <a:xfrm>
                <a:off x="1116000" y="3213000"/>
                <a:ext cx="10843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Объект 7"/>
              <p:cNvSpPr txBox="1"/>
              <p:nvPr/>
            </p:nvSpPr>
            <p:spPr>
              <a:xfrm>
                <a:off x="6227640" y="3213000"/>
                <a:ext cx="825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Объект 4"/>
              <p:cNvSpPr txBox="1"/>
              <p:nvPr/>
            </p:nvSpPr>
            <p:spPr>
              <a:xfrm>
                <a:off x="2987640" y="3645000"/>
                <a:ext cx="979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9"/>
              <p:cNvSpPr txBox="1"/>
              <p:nvPr/>
            </p:nvSpPr>
            <p:spPr>
              <a:xfrm>
                <a:off x="8028000" y="4005360"/>
                <a:ext cx="981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Объект 6"/>
              <p:cNvSpPr txBox="1"/>
              <p:nvPr/>
            </p:nvSpPr>
            <p:spPr>
              <a:xfrm>
                <a:off x="2484360" y="4869000"/>
                <a:ext cx="454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Объект 8"/>
              <p:cNvSpPr txBox="1"/>
              <p:nvPr/>
            </p:nvSpPr>
            <p:spPr>
              <a:xfrm>
                <a:off x="5580000" y="436572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b6bcf"/>
                </a:solidFill>
                <a:latin typeface="Arial"/>
              </a:rPr>
              <a:t>Алгебраическая форма записи комплексного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200" y="1052640"/>
            <a:ext cx="8363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1. Два комплексн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равны,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2.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0,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если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x=0; y=0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3.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Если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y=0,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то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    R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. Числа                                               назы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сопряженными и обознач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2"/>
              <p:cNvSpPr txBox="1"/>
              <p:nvPr/>
            </p:nvSpPr>
            <p:spPr>
              <a:xfrm>
                <a:off x="3564000" y="393372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755640" y="1511280"/>
                <a:ext cx="4038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1403280" y="2135160"/>
                <a:ext cx="2732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5"/>
              <p:cNvSpPr txBox="1"/>
              <p:nvPr/>
            </p:nvSpPr>
            <p:spPr>
              <a:xfrm>
                <a:off x="6300720" y="5157720"/>
                <a:ext cx="12970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и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2314440" y="4751280"/>
                <a:ext cx="394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9520" y="280800"/>
            <a:ext cx="822960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Такая форма записи комплексного числа называется </a:t>
            </a:r>
            <a:r>
              <a:rPr b="0" lang="ru-RU" sz="2800" spc="-1" strike="noStrike" u="sng">
                <a:solidFill>
                  <a:srgbClr val="6b6bcf"/>
                </a:solidFill>
                <a:uFillTx/>
                <a:latin typeface="Arial"/>
              </a:rPr>
              <a:t>алгебраической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Изображается комплексное число точкой на комплекс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711360" y="2487600"/>
                <a:ext cx="78976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Text Box 8"/>
          <p:cNvSpPr/>
          <p:nvPr/>
        </p:nvSpPr>
        <p:spPr>
          <a:xfrm>
            <a:off x="3348000" y="3213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348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220840" y="39718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954160" y="508464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300720" y="49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6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V="1">
            <a:off x="3132000" y="3213000"/>
            <a:ext cx="0" cy="34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466560" y="486900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305928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845640"/>
            <a:ext cx="83534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Для геометрического представления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комплексных чисел служат точки координатной плоскости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Y</a:t>
            </a:r>
            <a:r>
              <a:rPr b="0" i="1" lang="en-US" sz="24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лоскость называется  комплексной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, если каждому комплексному числу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соответствует точка плоскости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, причем это соответствие взаимно однозна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Оси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 и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, на которых расположены действительные числ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 чисто мним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, называются соответственно действительной и мнимой осями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Объект 1"/>
              <p:cNvSpPr txBox="1"/>
              <p:nvPr/>
            </p:nvSpPr>
            <p:spPr>
              <a:xfrm>
                <a:off x="4068720" y="3043080"/>
                <a:ext cx="2424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Объект 2"/>
              <p:cNvSpPr txBox="1"/>
              <p:nvPr/>
            </p:nvSpPr>
            <p:spPr>
              <a:xfrm>
                <a:off x="3203640" y="3433680"/>
                <a:ext cx="1805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Объект 4"/>
              <p:cNvSpPr txBox="1"/>
              <p:nvPr/>
            </p:nvSpPr>
            <p:spPr>
              <a:xfrm>
                <a:off x="755640" y="4581360"/>
                <a:ext cx="33354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" name="Объект 5"/>
          <p:cNvGraphicFramePr/>
          <p:nvPr/>
        </p:nvGraphicFramePr>
        <p:xfrm>
          <a:off x="633240" y="5013360"/>
          <a:ext cx="3437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5013360"/>
                    <a:ext cx="3437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845640"/>
            <a:ext cx="8353440" cy="12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9" descr="http://www.dsplib.ru/content/complex/complex_html_m5b082e0b.gif"/>
          <p:cNvPicPr/>
          <p:nvPr/>
        </p:nvPicPr>
        <p:blipFill>
          <a:blip r:embed="rId1"/>
          <a:stretch/>
        </p:blipFill>
        <p:spPr>
          <a:xfrm>
            <a:off x="1979640" y="2060640"/>
            <a:ext cx="460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9200" y="196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Тригонометрическая форма записи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564000" y="1347840"/>
                <a:ext cx="5329080" cy="30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ϕ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=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611280" y="4516560"/>
                <a:ext cx="792144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одул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ргумен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ϕ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Line 12"/>
          <p:cNvSpPr/>
          <p:nvPr/>
        </p:nvSpPr>
        <p:spPr>
          <a:xfrm flipV="1">
            <a:off x="971640" y="1347480"/>
            <a:ext cx="0" cy="301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971640" y="2501640"/>
            <a:ext cx="1944720" cy="9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1527120" y="3154320"/>
            <a:ext cx="122400" cy="27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1042920" y="1190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2484360" y="35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395280" y="342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971640" y="2492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2843280" y="25653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611280" y="256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1649520" y="31068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125892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2700360" y="2349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266920" y="3429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9:29:58Z</dcterms:created>
  <dc:creator>Admin</dc:creator>
  <dc:description/>
  <dc:language>en-US</dc:language>
  <cp:lastModifiedBy>MANYA</cp:lastModifiedBy>
  <dcterms:modified xsi:type="dcterms:W3CDTF">2014-09-25T18:52:14Z</dcterms:modified>
  <cp:revision>44</cp:revision>
  <dc:subject/>
  <dc:title>Лекция 1</dc:title>
</cp:coreProperties>
</file>